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5.pct" ContentType="image/x-pict"/>
  <Override PartName="/ppt/media/image6.jpeg" ContentType="image/jpeg"/>
  <Override PartName="/ppt/media/image14.pct" ContentType="image/x-pict"/>
  <Override PartName="/ppt/media/image13.png" ContentType="image/png"/>
  <Override PartName="/ppt/media/image36.pct" ContentType="image/x-pict"/>
  <Override PartName="/ppt/media/image16.pct" ContentType="image/x-pict"/>
  <Override PartName="/ppt/media/image10.jpeg" ContentType="image/jpeg"/>
  <Override PartName="/ppt/media/image12.gif" ContentType="image/gif"/>
  <Override PartName="/ppt/media/image9.pct" ContentType="image/x-pict"/>
  <Override PartName="/ppt/media/image38.pct" ContentType="image/x-pict"/>
  <Override PartName="/ppt/media/image11.gif" ContentType="image/gif"/>
  <Override PartName="/ppt/media/image30.pct" ContentType="image/x-pict"/>
  <Override PartName="/ppt/media/image31.pct" ContentType="image/x-pict"/>
  <Override PartName="/ppt/media/image37.pct" ContentType="image/x-pict"/>
  <Override PartName="/ppt/media/image7.pct" ContentType="image/x-pict"/>
  <Override PartName="/ppt/media/image24.pct" ContentType="image/x-pict"/>
  <Override PartName="/ppt/media/image28.pct" ContentType="image/x-pict"/>
  <Override PartName="/ppt/media/image8.gif" ContentType="image/gif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5A0-6DBA-4355-982F-3027B4FC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57B-4F56-47B0-9F33-F0626D0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7F9-CE59-47AA-8ED5-E56C17E3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5D7-2E59-4D77-827C-AC73AF52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527-8AA2-4DB5-9D89-9481B09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D88-0636-4A5C-9290-1CA40EA2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252-3F59-42BF-A628-CA58C605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FCA-A772-4591-A6B4-0598D7B4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91F-BEC3-41E3-906E-96E14659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3B7-51BA-425A-9396-3F53378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497-2F16-42CB-8E10-8666E0FC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59C-544C-402C-8E06-7A708D2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3C58-AFAC-4E4B-BD82-36C1BE608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ct"/><Relationship Id="rId6" Type="http://schemas.openxmlformats.org/officeDocument/2006/relationships/image" Target="../media/image26.pct"/><Relationship Id="rId7" Type="http://schemas.openxmlformats.org/officeDocument/2006/relationships/image" Target="../media/image27.pct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image" Target="../media/image30.pct"/><Relationship Id="rId4" Type="http://schemas.openxmlformats.org/officeDocument/2006/relationships/image" Target="../media/image7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image" Target="../media/image32.pct"/><Relationship Id="rId8" Type="http://schemas.openxmlformats.org/officeDocument/2006/relationships/image" Target="../media/image32.pct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image" Target="../media/image37.pct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7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Middle School English</a:t>
            </a:r>
            <a:br>
              <a:rPr sz="4400"/>
            </a:b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Curriculum Night 2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Lee Ann Em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Pat C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Anna Ste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Leslie Willi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Margee Dur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Robin Fu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7400" y="535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527120" cy="227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914400" cy="838080"/>
          </a:xfrm>
          <a:prstGeom prst="smileyFace">
            <a:avLst>
              <a:gd name="adj" fmla="val 928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1981080"/>
            <a:ext cx="62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bd00"/>
                </a:solidFill>
                <a:latin typeface="Arial"/>
              </a:rPr>
              <a:t>WELCOM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74674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Ideas &amp; Conte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The ideas are the heart of the message, the content of the piece…all the details that enrich and develop the them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57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398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Ideas &amp; Conten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0304"/>
                </a:solidFill>
                <a:latin typeface="Arial"/>
              </a:rPr>
              <a:t>~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Narrow the topic to something specifi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a fresh, original perspectiv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When possible, write from experi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important, interesting detai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(not just common knowledg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569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Organ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Organization is the internal structure of a piece of writing, the thread of central meaning, the patter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257120" cy="1676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15080" y="4495680"/>
            <a:ext cx="1743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Organ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an inviting lead that hooks the read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logical and effective order, structure, &amp; sequen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smooth transitions to emphasize main idea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place supporting details where they are most appropri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~ use a conclusion that gives the reader a sense of resolution (clinche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257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488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Word Choi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trong word choice clarifies and expands       ideas…moves and enlightens the read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30304"/>
                </a:solidFill>
                <a:latin typeface="Arial"/>
              </a:rPr>
              <a:t>  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  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Don’t tell me the moon is shining; show me the glint of light on broken glas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Anton Chekh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2050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488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Word Choi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words that create a mental picture for the read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powerful action verbs (vivid verb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specific nouns and adjectiv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language that is natural and not overdon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Be concise (tighten sentence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words correctl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Avoid repetition, slang, and cliché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05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Sentence Fluenc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Sentence fluency is the rhythm and flow of the languag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To me the greatest pleasure of writing is not what it’s about, but the music the words make.”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304"/>
                </a:solidFill>
                <a:latin typeface="Arial"/>
              </a:rPr>
              <a:t>--Truman Capo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4905360" cy="1373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49053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Sentence Fluenc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Vary sentence beginning, structure, and length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complete sentence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transitions (internal &amp; external) to promote cad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029200"/>
            <a:ext cx="49053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790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Voic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It is the heart and soul of the writing, the magic, the wit, the feeling, the life and brea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304"/>
                </a:solidFill>
                <a:latin typeface="Arial"/>
              </a:rPr>
              <a:t>--Northwest Regional Educational Lab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0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1886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790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Voice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Write honestly and from the hear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Interact with the read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* without using YO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language that brings the topic to lif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Care about topi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expression to voice personali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856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 Be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Author visi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Summer Read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ewspap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Literary maga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6095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249"/>
              </a:spcBef>
              <a:buClr>
                <a:srgbClr val="3b7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7c17"/>
                </a:solidFill>
                <a:latin typeface="Arial"/>
              </a:rPr>
              <a:t>jenlars.mu.nu/ spelling%20bee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42000" y="1143000"/>
            <a:ext cx="401796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body Reads”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438280" y="5105520"/>
            <a:ext cx="1320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Convention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Turn in a clean, edited, and polished final draf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Reinforce the organization with good paragraph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Use correct punctuation, spelling, and gramma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105520"/>
            <a:ext cx="88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7434"/>
                </a:solidFill>
                <a:latin typeface="Arial"/>
              </a:rPr>
              <a:t>? ! “” . ? ! “” . ? ! “” .,,,,,,,,,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0304"/>
                </a:solidFill>
                <a:latin typeface="Arial"/>
              </a:rPr>
              <a:t>Present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30304"/>
                </a:solidFill>
                <a:latin typeface="Arial"/>
              </a:rPr>
              <a:t>A writer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Turn in a clean, edited, and polished final draf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~ Format writing according to  teacher and/or MLA    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30304"/>
                </a:solidFill>
                <a:latin typeface="Arial"/>
              </a:rPr>
              <a:t>guidelin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2819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0"/>
          <a:ext cx="81532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53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Ap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Writing Assessment Progra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Educational Record Bur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writing  1-6 using the 6 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6- nar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7-8 exposi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6-7 test in Febr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8 September and Apr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PP-writing practic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: Write a three paragraph essay w/ thesis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: Know the elements of a story and details of a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: Know context, synonyms/antonyms,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: Apply rules of usage and mechanics to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e ideas clearly and effe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proficiency in using the traits of good writing—ideas, organization, voice, sentence fluency, word choice, and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stories, novels, and poetry in terms of basic litera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more complex and abstract ideas while students learn to express and defend their own thou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ivate an appreciation for classic and contemporary works through both whole class and independent r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 more complex grammatical concepts to enhance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range of word knowledge and develop more precision in written and oral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critically and share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three-five page essay w/ thesis stat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 literary analysis and relate literature to their own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and use new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rules of usage and mechanics to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Assess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hou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choice/short answer 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of literature from reading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Assess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(25%): brief written responses, formal ess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(25%): quizzes and tests (including multiple choice, short answer, and essay ques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 (20%) and Vocabulary (15%): weekly quizzes and unit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ester exam (1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ghth Grade Assess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Writing Assignments – 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Grammar –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Literature –2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dget"/>
              </a:rPr>
              <a:t>Vocabulary – 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2 hour Semester Exam  -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Includes at least one e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 for Ton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y / Essenti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ss the Curriculum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, grammar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04020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6th grade-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b13a"/>
                </a:solidFill>
                <a:latin typeface="Arial"/>
              </a:rPr>
              <a:t>7th grade-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d00"/>
                </a:solidFill>
                <a:latin typeface="Arial"/>
              </a:rPr>
              <a:t>8th grade- o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105200" cy="1574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8880" y="1523880"/>
            <a:ext cx="9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62120" y="4419720"/>
            <a:ext cx="1003320" cy="163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858000" y="4572000"/>
            <a:ext cx="110484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257800" y="1523880"/>
            <a:ext cx="952560" cy="1676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65400" y="1914480"/>
            <a:ext cx="323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Story Collection including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amond Necklace” and “After Twenty Year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8960" y="3581280"/>
            <a:ext cx="34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etry Collection includ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 cummings, Longfellow, Fr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3440" y="521352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drama includ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d Serling and A.A. Mi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Reading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m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poems and short s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Outsid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Hinton - Bo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targir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pinelli -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Adventures of Tom Sawy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wain - Bo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ittle Wom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lcott -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Diary of Anne Frank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ma -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roes, Gods, and Monst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vslin -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reading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lf-se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91520" y="1752480"/>
            <a:ext cx="10760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873920" y="3505320"/>
            <a:ext cx="11271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81680" y="3505320"/>
            <a:ext cx="97956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172200" y="1752480"/>
            <a:ext cx="8762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4114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7315200" y="5181480"/>
            <a:ext cx="88740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228600" y="304920"/>
            <a:ext cx="1012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952560" cy="165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86400" y="3886200"/>
            <a:ext cx="89208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934320" y="1981080"/>
            <a:ext cx="108252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752480" y="1828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905120" y="3352680"/>
            <a:ext cx="114120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934320" y="3886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7800" y="1981080"/>
            <a:ext cx="130644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304920" y="380880"/>
            <a:ext cx="106200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5000" y="5181480"/>
            <a:ext cx="34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nderel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k and the Beanstal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4960" y="1419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ies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514600"/>
            <a:ext cx="70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eckled Band” by Sir Conan Do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nsic science/ Mystery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397480"/>
            <a:ext cx="1460520" cy="1460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3048120"/>
            <a:ext cx="812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piration of  Mr. Budd” by Dorothy S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se of the Perfect Maid” by Agatha Chris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 mys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sive closing argument for civ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391520" y="4267080"/>
            <a:ext cx="1384200" cy="1575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543800" y="149868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190476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1371600" cy="2031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4572000"/>
            <a:ext cx="95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ing Arthur and His Knight of the Round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rano de Bergera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ocket B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 and unity of a para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trong topic/closing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descriptive, narrative, persuasive, expository and creative pie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writing process: pre-write, write, conference, revise, 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riting Process and Six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paragraph Ess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ua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itory - research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azin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and friendly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ua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ry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of parts of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of usage in writ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- subject/verb agreement, pronoun refere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of mechanics in writing: ex. - capitalization, punctu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s of a Sen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s and Proofreading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dget"/>
              </a:rPr>
              <a:t>Middle School Literacy Philos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In the transitional years, the middle school English class is a safe place to build a literate community which emphasizes the following 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1. Reading, writing and discussion are tools for thinking and lear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2. Reading and writing are inextricably bound and should be taught in 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tand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3. Craft and convention must be deliberately tau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4. Critical thinking skills and analysis should be developed in all areas 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dget"/>
              </a:rPr>
              <a:t>of litera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Adopted May 3,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Marie Lambremont, Debbie Franks, Pat Costen, Robin Fuller, Cynthia Mot, and Tony Pat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Affirmed June 20,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dget"/>
              </a:rPr>
              <a:t>Lee Ann Emerson, Pat Coston, Leslie Williams, Anna Sterne, Robin Fuller, Margee Dur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of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r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c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dvanced Englis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complete the 8th grade English curriculum with the addition of an independent project to be completed in the 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grammar will be taught in the Fall Semester- we will move quickly students need to  have strong grammar  and writing and be willing to put in extra time to review nigh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is a good candid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ong 6th-7th grade English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8 or greater aver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 is self-motivated and self-disciplined (there will be lots of work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 “Goes above and beyo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 would like to study a topic in dep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ependent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emes from our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no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ertain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rytell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moi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s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end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a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ne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ma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iry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ependent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portfolio of research- document what you read/th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esearch will be directed by teacher, some by 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“product” based on your learning (a piece of writing, art project, technology projec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portfolio and project-this will replace  the spring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Grade Special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over for summer reading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Reading projects focusing on elements of a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clu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try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bas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b1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Grad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al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-long Collaborative Magazin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Voice 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and group literature-bas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mono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character por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olog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h Gra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al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ytale News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 of the Mi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/civics interdisciplinary-foren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s and Medieva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nterdisciplinary- r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bout M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 for attend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?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 Ann Em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 Co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a Ste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lie Willi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ee Du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in Fu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 will be pos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MS Resourc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1650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Gadget"/>
              </a:rPr>
              <a:t>Middle School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Gadget"/>
              </a:rPr>
              <a:t> English Department Philoso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dg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dget"/>
              </a:rPr>
              <a:t>The mission of the Lovett Middle School English Department is to instill in our students a love of language in both its written and spoken form, thereby stimulating an appreciation and understanding of literature and the intricacies of our language through reading, writing and oral discou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30304"/>
                </a:solidFill>
                <a:uFillTx/>
                <a:latin typeface="Arial"/>
              </a:rPr>
              <a:t>Middle School English Essential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does our approach to the written word influence our understanding of the writer’s mess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does literature reflect lif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can we effectively communicate our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can knowledge of grammar and the study of words enhance reading and communica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Times New Roman"/>
              </a:rPr>
              <a:t>How do research, study skills and learning strategies help us lear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304"/>
                </a:solidFill>
                <a:latin typeface="Arial"/>
              </a:rPr>
              <a:t>Middle School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Greek and Latin R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Prefixes-Suf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ynonym- Antony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Words in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Reading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tandardized test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Study-Bud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2953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57150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0304"/>
                </a:solidFill>
                <a:uFillTx/>
                <a:latin typeface="Arial"/>
              </a:rPr>
              <a:t>Vocabulary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304"/>
                </a:solidFill>
                <a:latin typeface="Arial"/>
              </a:rPr>
              <a:t>Levels C,D,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304"/>
                </a:solidFill>
                <a:latin typeface="Arial"/>
              </a:rPr>
              <a:t>Middle School Gramm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5715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30304"/>
                </a:solidFill>
                <a:uFillTx/>
                <a:latin typeface="Arial"/>
              </a:rPr>
              <a:t>Elements of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30304"/>
                </a:solidFill>
                <a:uFillTx/>
                <a:latin typeface="Arial"/>
              </a:rPr>
              <a:t>Grammar, Usage, Mechanics</a:t>
            </a:r>
            <a:r>
              <a:rPr b="0" lang="en-US" sz="2800" spc="-1" strike="noStrike">
                <a:solidFill>
                  <a:srgbClr val="030304"/>
                </a:solidFill>
                <a:latin typeface="Arial"/>
              </a:rPr>
              <a:t> (G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505320" y="464832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30304"/>
                </a:solidFill>
                <a:latin typeface="Arial"/>
              </a:rPr>
              <a:t>The 6 Traits of Writ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Ide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Organ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Word Choi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Sentence Fluen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Voi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*Conven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30304"/>
                </a:solidFill>
                <a:latin typeface="Arial"/>
              </a:rPr>
              <a:t>+ 1 *Pres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81360" y="330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201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2:31:40Z</dcterms:created>
  <dc:creator>Educational Technology</dc:creator>
  <dc:description/>
  <dc:language>en-US</dc:language>
  <cp:lastModifiedBy>Educational Technology</cp:lastModifiedBy>
  <cp:lastPrinted>2008-10-29T20:23:45Z</cp:lastPrinted>
  <dcterms:modified xsi:type="dcterms:W3CDTF">2008-10-29T20:29:44Z</dcterms:modified>
  <cp:revision>33</cp:revision>
  <dc:subject/>
  <dc:title>Middle School English</dc:title>
</cp:coreProperties>
</file>